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7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4CE-9B32-48DB-8C08-491A1849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4C8-22BC-4C9D-A918-06D5DC99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404-A28C-448F-AB09-377E90E3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487-23BB-4264-BE10-622AA8FB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0D1C7-B482-4221-9488-D146D7A7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B70A3-73D2-4604-8BD9-82CB3784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9477A-9992-4B5E-B4A5-A02719A6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B69CE-E3D7-4FE2-AF55-A79C3F91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5324E-4FCD-4667-9FE3-95030E58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6E607-DF50-4C28-9D14-B3E189D1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00EE0-A10A-4B41-9BC1-0E250727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B25-D359-42C1-AFF6-1938DC90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EA92A-149D-45B2-A763-835C4F6D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1CFC4-499C-4C1E-A789-BFFCF4CD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04020-DBF5-437D-9F27-FA9BB1E2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4D889-EAF4-48F9-98AD-ECFBF6B8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E3ACA-92E2-49FF-9466-BA3B4D40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72A-0B68-4E29-95B0-323ABE35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CB77-4C8D-4850-BC4A-375F3BC2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F0B-EDB5-4345-B6FE-ED0F27DF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A74-3676-4B19-9F70-3758D11D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D58-1BA6-47BF-8066-B08F5181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201-95D1-464B-B225-5E9E5607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F32F-5049-40FF-BB50-09C2B610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F520-90C6-4768-85AA-BBB4CAB3CC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328C-AF21-4E75-BEB2-CA94456190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ct"/><Relationship Id="rId4" Type="http://schemas.openxmlformats.org/officeDocument/2006/relationships/image" Target="../media/image9.pct"/><Relationship Id="rId5" Type="http://schemas.openxmlformats.org/officeDocument/2006/relationships/image" Target="../media/image10.pct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ema.gov/kids/tsunami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Cindy Salg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vette Dor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y Tlaz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evid Rui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81080" y="1523880"/>
            <a:ext cx="5334120" cy="18432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Tsunam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eries of huge waves  cause by earthquake or volcano under wa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2290680"/>
            <a:ext cx="4038480" cy="3341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4680" y="5791320"/>
            <a:ext cx="342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science.howstuffworks.com/nature/natural-disasters/tsunami2.ht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uses a Tsunam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of earth under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waves in deep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waves at shore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vel in many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h different conti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quake makes waves hig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10080" y="2286000"/>
            <a:ext cx="3200400" cy="2647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10080" y="5029200"/>
            <a:ext cx="35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cience.howstuffworks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rculanum"/>
              </a:rPr>
              <a:t>Effects of a Tsunam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could knock down a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sunamis can make many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ing how low or high the water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December 26 ,2004 a strong tsunami hit Asia and killed 200,000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76400" y="1905120"/>
            <a:ext cx="279864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19320" y="61722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tsunamis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rculanum"/>
              </a:rPr>
              <a:t>Safety T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295280"/>
            <a:ext cx="4038480" cy="5181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en for warning sir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out of the ocean as fast as you c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en to news or radio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in school you need to go with a teac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 to higher floor or higher l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sunami’s can occur at day and n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3962520" cy="5257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658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rps.psu.edu/probing/tsunami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 Sir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10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65530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connect.in.com/tsunami-warning/images-tsunami-warning-system--1-257804088463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burst Drink Helps You Run Away From Tsunamis !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62120" y="1428840"/>
            <a:ext cx="7619760" cy="5429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924680" y="601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66680" y="2819520"/>
            <a:ext cx="2438640" cy="1295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172200" y="1981080"/>
            <a:ext cx="1359000" cy="3276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905120" y="4572000"/>
            <a:ext cx="922320" cy="1523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38280" y="6308640"/>
            <a:ext cx="396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google.com/imgres?imgurl=http://www.dylanscandybar.com/resources/dylans/images/products/processed/301scandybar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14479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 all these ingredients together and you will run forever!!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ea typeface="ＭＳ Ｐゴシック"/>
                <a:hlinkClick r:id="rId2"/>
              </a:rPr>
              <a:t>http://www.fema.gov/kids/tsunami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ttp://www.google.com/imgres?imgurl=http://www.dylanscandybar.com/resources/dylans/images/products/processed/301scandybar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440" y="2338560"/>
            <a:ext cx="585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science.howstuffworks.com/nature/natural-disasters/tsunami2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50:31Z</dcterms:created>
  <dc:creator>D83  User</dc:creator>
  <dc:description/>
  <dc:language>en-US</dc:language>
  <cp:lastModifiedBy>D83  User</cp:lastModifiedBy>
  <dcterms:modified xsi:type="dcterms:W3CDTF">2010-10-28T15:24:50Z</dcterms:modified>
  <cp:revision>18</cp:revision>
  <dc:subject/>
  <dc:title>PowerPoint Presentation</dc:title>
</cp:coreProperties>
</file>